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3D4-D044-45E2-9A11-81DBCEFA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5B7-DF7A-4C83-AE3E-20F2FB0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D90-4E35-46DC-92FF-E6A8D78C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2B1-5AC8-43EF-A762-D2F842B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4989-41F0-4EEC-B535-46F7BAFD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310-BF9A-4238-8E5A-D6FB831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255B-93B9-4D68-B53C-45AE5213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2CF-42FC-4D6F-A6BB-28B6F53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608-4FB8-4BAC-B9E5-400D0C0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7540-9DB2-4972-BC46-D560B0E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6B2-BBC1-4EBA-AD34-428B9AE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EB6-F6B7-4EBF-8EC9-88E5145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DD17-4FA5-4D54-9516-829F476A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A65-8486-46E9-88A4-E98C666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B054-A585-4F4E-9DF0-BC66662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58B-7A39-45F6-99AA-B927C2D2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D7CE-99F1-47FB-B2D9-790AD50C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7E-24D9-4F3D-AC60-B06F7A9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537-E073-4A9F-94A0-C37A8F07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51E-83DA-4E48-BF8E-CEE6D83D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F0E-EC37-4928-82FB-ADC5836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32B-2FBB-4556-B458-E98C319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4A8-9A67-46D4-A4D5-76D2D23B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E6C-8EE1-4A7C-B767-72E8CB3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87E-18ED-4A05-A86F-3A0D347E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447920"/>
            <a:ext cx="845820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3BD-6A8C-4716-97D1-B7E7926785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792468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6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del social responses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io-terrorism involving infectious agents?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574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ge Cozz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Institute of Te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hen Eub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os Al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 Glas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an Lusti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en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ek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ry Quarantel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ela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Social 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sugge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licies/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etal policies/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respond to “bio-terr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al behavi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ct/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olic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ffectiven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ocial network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modeling social behavior important/relev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tching model to prob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 vs. conflict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framing and interplay of biological and socio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objectives beyond diseas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apacity to absorb disru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disruption vs.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52388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 to the event (preventive policies, threat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the ev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ctious agent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ime/space dim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t instantane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event (including aftershoc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41972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ossibly separate policies/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ross-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Social behavior could be quite different in each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cision-making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82240" cy="57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 Mechanics of the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pidemiology, soci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fferent parameters: important ones excluded? proxy eff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cro-level modeling vs. aggre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ime to control/eliminate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# of affected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economic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Alternativ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uld be addressed las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organizational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cen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Proces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3880"/>
            <a:ext cx="777240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18288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213336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057400"/>
            <a:ext cx="2667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2514600"/>
            <a:ext cx="5105160" cy="1066680"/>
            <a:chOff x="2133720" y="2514600"/>
            <a:chExt cx="5105160" cy="1066680"/>
          </a:xfrm>
        </p:grpSpPr>
        <p:sp>
          <p:nvSpPr>
            <p:cNvPr id="103" name=""/>
            <p:cNvSpPr/>
            <p:nvPr/>
          </p:nvSpPr>
          <p:spPr>
            <a:xfrm>
              <a:off x="2133720" y="3048120"/>
              <a:ext cx="510516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 OF THE 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4280" y="25146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95480" y="3581280"/>
            <a:ext cx="3429000" cy="990720"/>
            <a:chOff x="2895480" y="3581280"/>
            <a:chExt cx="3429000" cy="990720"/>
          </a:xfrm>
        </p:grpSpPr>
        <p:sp>
          <p:nvSpPr>
            <p:cNvPr id="106" name=""/>
            <p:cNvSpPr/>
            <p:nvPr/>
          </p:nvSpPr>
          <p:spPr>
            <a:xfrm>
              <a:off x="2895480" y="40384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BJEC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35812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2514600"/>
            <a:ext cx="5638680" cy="2895480"/>
            <a:chOff x="685800" y="2514600"/>
            <a:chExt cx="5638680" cy="2895480"/>
          </a:xfrm>
        </p:grpSpPr>
        <p:sp>
          <p:nvSpPr>
            <p:cNvPr id="109" name=""/>
            <p:cNvSpPr/>
            <p:nvPr/>
          </p:nvSpPr>
          <p:spPr>
            <a:xfrm>
              <a:off x="2895480" y="4876920"/>
              <a:ext cx="3429000" cy="5331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TERNA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45720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514600"/>
              <a:ext cx="2209680" cy="259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5410080"/>
            <a:ext cx="3429000" cy="990720"/>
            <a:chOff x="2895480" y="5410080"/>
            <a:chExt cx="3429000" cy="990720"/>
          </a:xfrm>
        </p:grpSpPr>
        <p:sp>
          <p:nvSpPr>
            <p:cNvPr id="113" name=""/>
            <p:cNvSpPr/>
            <p:nvPr/>
          </p:nvSpPr>
          <p:spPr>
            <a:xfrm>
              <a:off x="2895480" y="58672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DECIS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54100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6324480" y="2514240"/>
            <a:ext cx="182880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ol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cal applied math  (ODE, PDE, dynamical systems, control theory, stochastic methods, statistical methods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agent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networks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theoretic approaches (fundamental for modeling individual behavior; too hard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ing innovatively? E.g., similarities with finance (modeling responses to seemingly irrational behavior in markets, e.g. behavioral finance, modeling shock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7:22Z</dcterms:created>
  <dc:creator> </dc:creator>
  <dc:description/>
  <dc:language>en-US</dc:language>
  <cp:lastModifiedBy>workshop</cp:lastModifiedBy>
  <dcterms:modified xsi:type="dcterms:W3CDTF">2003-06-02T17:39:22Z</dcterms:modified>
  <cp:revision>12</cp:revision>
  <dc:subject/>
  <dc:title> </dc:title>
</cp:coreProperties>
</file>