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9B3-ABD1-4353-A52D-3C207045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934-38F5-4131-8440-A7461B1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95A-219D-483D-AF5E-D681103F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D0D-FA0B-4CB5-B01C-9273F9E0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778D-5948-4CCC-87F5-E603BC8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93E-765C-4D34-B5EE-D35B2844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2990-50EC-44B9-86F6-ED0815A1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E8A-3579-4D48-AE2E-5F8CEB6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15F-AB7D-4ED5-86BC-BCBE4AF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2D9-BDA4-4727-9468-F445C2CB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B610-F9E6-4743-9A86-F143E788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211-1C8A-4357-B34B-450A8C6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AB86-5484-4F0F-BD69-2C405B2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CE54-E7EC-4497-B8F5-ED9881E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7CE-AD7D-4030-B691-C8099D4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06DA-8A9D-4D1E-A7CF-2DB35ADB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297-3756-4E4C-AC73-34D0AB10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E73-A0B2-4E9D-B5D6-6700435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E28-3440-47CF-B0E8-0DEEA289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32B-94BC-48A3-B3B1-D7701A6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70D-2558-4DA0-9A2E-EB2A82E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92D-4CDF-4DE4-A9EC-EF40047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AA1-EE52-4F79-8C95-81B86C6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A6A-8090-468D-9BFD-B297F4A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AD15-42C1-4D7D-843E-252232AD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447920"/>
            <a:ext cx="845820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A22-4A26-467C-BF93-BDD3FEF0B8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792468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6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del social responses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io-terrorism involving infectious agents?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574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ge Cozz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Institute of Te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hen Eub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os Al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 Glas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an Lusti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en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ek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ry Quarantel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ela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Social 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sugge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licies/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etal policies/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respond to “bio-terr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al behavi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ct/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olic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ffectiven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ocial network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modeling social behavior important/relev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tching model to prob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 vs. conflict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framing and interplay of biological and socio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objectives beyond diseas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apacity to absorb disru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disruption vs.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52388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 to the event (preventive policies, threat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the ev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ctious agent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ime/space dim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t instantane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event (including aftershoc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41972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ossibly separate policies/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ross-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Social behavior could be quite different in each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cision-making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82240" cy="57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 Mechanics of the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pidemiology, soci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fferent parameters: important ones excluded? proxy eff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cro-level modeling vs. aggre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ime to control/eliminate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# of affected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economic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Alternativ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uld be addressed las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organizational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cen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Proces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3880"/>
            <a:ext cx="777240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18288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213336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057400"/>
            <a:ext cx="2667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2514600"/>
            <a:ext cx="5105160" cy="1066680"/>
            <a:chOff x="2133720" y="2514600"/>
            <a:chExt cx="5105160" cy="1066680"/>
          </a:xfrm>
        </p:grpSpPr>
        <p:sp>
          <p:nvSpPr>
            <p:cNvPr id="103" name=""/>
            <p:cNvSpPr/>
            <p:nvPr/>
          </p:nvSpPr>
          <p:spPr>
            <a:xfrm>
              <a:off x="2133720" y="3048120"/>
              <a:ext cx="510516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 OF THE 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4280" y="25146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95480" y="3581280"/>
            <a:ext cx="3429000" cy="990720"/>
            <a:chOff x="2895480" y="3581280"/>
            <a:chExt cx="3429000" cy="990720"/>
          </a:xfrm>
        </p:grpSpPr>
        <p:sp>
          <p:nvSpPr>
            <p:cNvPr id="106" name=""/>
            <p:cNvSpPr/>
            <p:nvPr/>
          </p:nvSpPr>
          <p:spPr>
            <a:xfrm>
              <a:off x="2895480" y="40384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BJEC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35812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2514600"/>
            <a:ext cx="5638680" cy="2895480"/>
            <a:chOff x="685800" y="2514600"/>
            <a:chExt cx="5638680" cy="2895480"/>
          </a:xfrm>
        </p:grpSpPr>
        <p:sp>
          <p:nvSpPr>
            <p:cNvPr id="109" name=""/>
            <p:cNvSpPr/>
            <p:nvPr/>
          </p:nvSpPr>
          <p:spPr>
            <a:xfrm>
              <a:off x="2895480" y="4876920"/>
              <a:ext cx="3429000" cy="5331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TERNA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45720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514600"/>
              <a:ext cx="2209680" cy="259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5410080"/>
            <a:ext cx="3429000" cy="990720"/>
            <a:chOff x="2895480" y="5410080"/>
            <a:chExt cx="3429000" cy="990720"/>
          </a:xfrm>
        </p:grpSpPr>
        <p:sp>
          <p:nvSpPr>
            <p:cNvPr id="113" name=""/>
            <p:cNvSpPr/>
            <p:nvPr/>
          </p:nvSpPr>
          <p:spPr>
            <a:xfrm>
              <a:off x="2895480" y="58672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DECIS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54100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6324480" y="2514240"/>
            <a:ext cx="182880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ol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cal applied math  (ODE, PDE, dynamical systems, control theory, stochastic methods, statistical methods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agent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networks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theoretic approaches (fundamental for modeling individual behavior; too hard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ing innovatively? E.g., similarities with finance (modeling responses to seemingly irrational behavior in markets, e.g. behavioral finance, modeling shock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7:22Z</dcterms:created>
  <dc:creator> </dc:creator>
  <dc:description/>
  <dc:language>en-US</dc:language>
  <cp:lastModifiedBy>workshop</cp:lastModifiedBy>
  <dcterms:modified xsi:type="dcterms:W3CDTF">2003-06-02T17:39:22Z</dcterms:modified>
  <cp:revision>12</cp:revision>
  <dc:subject/>
  <dc:title> </dc:title>
</cp:coreProperties>
</file>