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186-5A7D-4BE0-86D3-2059353C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853-7A40-4664-A823-8E78365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FDD-068E-4254-A23A-1621BFD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481-BE9C-45F5-ADD0-0BDD97AF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6B7-C5A9-424F-A0C7-B3568CD6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E00-4426-4D0C-96E8-B23B9B2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FF39-D695-4531-8DAB-D872C20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CCCD-6098-400A-931E-B0F037D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08A7-F2D7-4547-B9E7-E1503EF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8892-2BAD-4105-B5D0-549BA3C1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C1D4-52F2-40EE-9206-8EEEF16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C55-4D70-47B3-BA07-6A3C75AA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3412-B6F3-4393-8337-9F9F2AF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6FE-BB4C-4D1D-89E4-A8C9FB9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677-1608-4CC7-824A-ADF2DE0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F92-7182-4B79-B37E-36BF6C8F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FD5A-5ACA-4AEF-BA09-94E9CA97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B8C-4F02-4165-AEC0-92E9AB1A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FC1-21C3-49B2-994D-58789F78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861-455F-4312-BB0C-CA38722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BCC-C368-4764-8E47-AB87376F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DAA-0F99-40A4-81BF-C0DE996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0A8-A851-464A-929C-00BD205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767-751F-489F-849C-3CA5681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4C5-FD8F-4693-984A-F0581EF8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447920"/>
            <a:ext cx="845820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161-B58D-4121-BBBB-53DF6F93F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792468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6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del social responses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io-terrorism involving infectious agents?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574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ge Cozz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Institute of Te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hen Eub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os Al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 Glas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an Lusti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en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ek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ry Quarantel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ela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Social 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sugge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licies/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etal policies/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respond to “bio-terr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al behavi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ct/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olic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ffectiven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ocial network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modeling social behavior important/relev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tching model to prob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 vs. conflict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framing and interplay of biological and socio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objectives beyond diseas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apacity to absorb disru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disruption vs.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52388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 to the event (preventive policies, threat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the ev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ctious agent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ime/space dim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t instantane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event (including aftershoc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41972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ossibly separate policies/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ross-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Social behavior could be quite different in each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cision-making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82240" cy="57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 Mechanics of the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pidemiology, soci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fferent parameters: important ones excluded? proxy eff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cro-level modeling vs. aggre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ime to control/eliminate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# of affected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economic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Alternativ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uld be addressed las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organizational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cen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Proces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3880"/>
            <a:ext cx="777240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18288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213336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057400"/>
            <a:ext cx="2667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2514600"/>
            <a:ext cx="5105160" cy="1066680"/>
            <a:chOff x="2133720" y="2514600"/>
            <a:chExt cx="5105160" cy="1066680"/>
          </a:xfrm>
        </p:grpSpPr>
        <p:sp>
          <p:nvSpPr>
            <p:cNvPr id="103" name=""/>
            <p:cNvSpPr/>
            <p:nvPr/>
          </p:nvSpPr>
          <p:spPr>
            <a:xfrm>
              <a:off x="2133720" y="3048120"/>
              <a:ext cx="510516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 OF THE 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4280" y="25146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95480" y="3581280"/>
            <a:ext cx="3429000" cy="990720"/>
            <a:chOff x="2895480" y="3581280"/>
            <a:chExt cx="3429000" cy="990720"/>
          </a:xfrm>
        </p:grpSpPr>
        <p:sp>
          <p:nvSpPr>
            <p:cNvPr id="106" name=""/>
            <p:cNvSpPr/>
            <p:nvPr/>
          </p:nvSpPr>
          <p:spPr>
            <a:xfrm>
              <a:off x="2895480" y="40384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BJEC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35812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2514600"/>
            <a:ext cx="5638680" cy="2895480"/>
            <a:chOff x="685800" y="2514600"/>
            <a:chExt cx="5638680" cy="2895480"/>
          </a:xfrm>
        </p:grpSpPr>
        <p:sp>
          <p:nvSpPr>
            <p:cNvPr id="109" name=""/>
            <p:cNvSpPr/>
            <p:nvPr/>
          </p:nvSpPr>
          <p:spPr>
            <a:xfrm>
              <a:off x="2895480" y="4876920"/>
              <a:ext cx="3429000" cy="5331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TERNA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45720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514600"/>
              <a:ext cx="2209680" cy="259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5410080"/>
            <a:ext cx="3429000" cy="990720"/>
            <a:chOff x="2895480" y="5410080"/>
            <a:chExt cx="3429000" cy="990720"/>
          </a:xfrm>
        </p:grpSpPr>
        <p:sp>
          <p:nvSpPr>
            <p:cNvPr id="113" name=""/>
            <p:cNvSpPr/>
            <p:nvPr/>
          </p:nvSpPr>
          <p:spPr>
            <a:xfrm>
              <a:off x="2895480" y="58672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DECIS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54100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6324480" y="2514240"/>
            <a:ext cx="182880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ol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cal applied math  (ODE, PDE, dynamical systems, control theory, stochastic methods, statistical methods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agent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networks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theoretic approaches (fundamental for modeling individual behavior; too hard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ing innovatively? E.g., similarities with finance (modeling responses to seemingly irrational behavior in markets, e.g. behavioral finance, modeling shock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7:22Z</dcterms:created>
  <dc:creator> </dc:creator>
  <dc:description/>
  <dc:language>en-US</dc:language>
  <cp:lastModifiedBy>workshop</cp:lastModifiedBy>
  <dcterms:modified xsi:type="dcterms:W3CDTF">2003-06-02T17:39:22Z</dcterms:modified>
  <cp:revision>12</cp:revision>
  <dc:subject/>
  <dc:title> </dc:title>
</cp:coreProperties>
</file>