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089-572F-4343-92E6-F0EA05AE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CD8-3B43-4425-8276-1F90DFA2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B9C-AF6C-468E-8F44-A0BD16A1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F9A-0EAE-4F97-8D47-CDC9B59D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B364-5BA5-41B1-BDF4-97DDF20F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D4EB-3459-4BA6-8DAE-D6671F86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7D3C-EAA6-4DC4-BB64-BC9C8D70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01A4-7523-4F13-8CBA-F48890BE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9623-2C29-45A9-8046-61BAA50D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E61C-E8DF-4370-A8EF-1AAA5E3F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B11C-353B-4810-B626-3A7ADC28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520-95E3-4269-B290-FDE445C6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61DD-D9C9-4866-A148-356203D9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6C77-A960-4ABB-BEF7-FB1D0F2D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F1D8-19A6-424D-8279-0992EF3B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1CAF-887D-4AD6-A91E-E4B2F6C6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EEB9-9BE5-4CA5-9619-D3D51FA1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10B2-0209-41F9-85A7-0C998F68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5CE-953D-42A8-B7F5-E7AEFDAB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25F-DEFD-4E5B-9141-DBA17861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1C9-C641-43B0-9CE0-9C792C57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AEB-B769-4BC7-9F1F-3A91BC72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648-9E1A-4E93-B887-E47636A2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E32-7F2F-49E0-8E77-987E9A48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5294-C9F3-4D94-AC4D-E7C47CE1F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447920"/>
            <a:ext cx="8458200" cy="0"/>
          </a:xfrm>
          <a:prstGeom prst="line">
            <a:avLst/>
          </a:prstGeom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451F-81BD-4C7C-A603-B76CB29954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7924680" cy="0"/>
          </a:xfrm>
          <a:prstGeom prst="line">
            <a:avLst/>
          </a:prstGeom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66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ow to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model social responses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o bio-terrorism involving infectious agents?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05740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200400"/>
            <a:ext cx="7620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dge Cozze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olorado Institute of Te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hen Euban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os Ala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hn Glass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an Lustic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Pen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Pek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nry Quarantell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ela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odeling Social Respons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828800"/>
            <a:ext cx="80773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d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t suggest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licies/dec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etal policies/strateg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respond to “bio-terro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al behavi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it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act/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polic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effectivenes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ocial network structure/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ndividual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s modeling social behavior important/releva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atching model to prob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828800"/>
            <a:ext cx="8077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ural vs. conflictu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-framing and interplay of biological and sociolog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 objectives beyond disease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capacity to absorb disru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disruption vs. de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espons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523880"/>
            <a:ext cx="8077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 to the event (preventive policies, threat redu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ing the ev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ectious agent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ime/space dime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not instantaneo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the event (including aftershoc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419720"/>
            <a:ext cx="815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Possibly separate policies/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Cross-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Social behavior could be quite different in each categ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Decision-making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47920"/>
            <a:ext cx="8382240" cy="57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 Mechanics of the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pidemiology, social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fferent parameters: important ones excluded? proxy effect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cro-level modeling vs. aggre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Ob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ime to control/eliminate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nimize casual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nimize # of affected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minimize economic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Alternativ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hould be addressed last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s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organizational structure/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ncen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odeling Proces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23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523880"/>
            <a:ext cx="7772400" cy="99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RED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057400"/>
            <a:ext cx="182880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dem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057400"/>
            <a:ext cx="213336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057400"/>
            <a:ext cx="26672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33720" y="2514600"/>
            <a:ext cx="5105160" cy="1066680"/>
            <a:chOff x="2133720" y="2514600"/>
            <a:chExt cx="5105160" cy="1066680"/>
          </a:xfrm>
        </p:grpSpPr>
        <p:sp>
          <p:nvSpPr>
            <p:cNvPr id="103" name=""/>
            <p:cNvSpPr/>
            <p:nvPr/>
          </p:nvSpPr>
          <p:spPr>
            <a:xfrm>
              <a:off x="2133720" y="3048120"/>
              <a:ext cx="5105160" cy="533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DEL OF THE PROC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24280" y="2514600"/>
              <a:ext cx="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895480" y="3581280"/>
            <a:ext cx="3429000" cy="990720"/>
            <a:chOff x="2895480" y="3581280"/>
            <a:chExt cx="3429000" cy="990720"/>
          </a:xfrm>
        </p:grpSpPr>
        <p:sp>
          <p:nvSpPr>
            <p:cNvPr id="106" name=""/>
            <p:cNvSpPr/>
            <p:nvPr/>
          </p:nvSpPr>
          <p:spPr>
            <a:xfrm>
              <a:off x="2895480" y="4038480"/>
              <a:ext cx="3429000" cy="533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BJECTI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358128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5800" y="2514600"/>
            <a:ext cx="5638680" cy="2895480"/>
            <a:chOff x="685800" y="2514600"/>
            <a:chExt cx="5638680" cy="2895480"/>
          </a:xfrm>
        </p:grpSpPr>
        <p:sp>
          <p:nvSpPr>
            <p:cNvPr id="109" name=""/>
            <p:cNvSpPr/>
            <p:nvPr/>
          </p:nvSpPr>
          <p:spPr>
            <a:xfrm>
              <a:off x="2895480" y="4876920"/>
              <a:ext cx="3429000" cy="5331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LTERNATIV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4280" y="45720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5800" y="2514600"/>
              <a:ext cx="2209680" cy="2590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95480" y="5410080"/>
            <a:ext cx="3429000" cy="990720"/>
            <a:chOff x="2895480" y="5410080"/>
            <a:chExt cx="3429000" cy="990720"/>
          </a:xfrm>
        </p:grpSpPr>
        <p:sp>
          <p:nvSpPr>
            <p:cNvPr id="113" name=""/>
            <p:cNvSpPr/>
            <p:nvPr/>
          </p:nvSpPr>
          <p:spPr>
            <a:xfrm>
              <a:off x="2895480" y="5867280"/>
              <a:ext cx="3429000" cy="533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DECIS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541008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6324480" y="2514240"/>
            <a:ext cx="1828800" cy="3505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ool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523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ical applied math  (ODE, PDE, dynamical systems, control theory, stochastic methods, statistical methods,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agent 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networks 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 optim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theoretic approaches (fundamental for modeling individual behavior; too hard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king innovatively? E.g., similarities with finance (modeling responses to seemingly irrational behavior in markets, e.g. behavioral finance, modeling shocks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47:22Z</dcterms:created>
  <dc:creator> </dc:creator>
  <dc:description/>
  <dc:language>en-US</dc:language>
  <cp:lastModifiedBy>workshop</cp:lastModifiedBy>
  <dcterms:modified xsi:type="dcterms:W3CDTF">2003-06-02T17:39:22Z</dcterms:modified>
  <cp:revision>12</cp:revision>
  <dc:subject/>
  <dc:title> </dc:title>
</cp:coreProperties>
</file>